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7.png" ContentType="image/png"/>
  <Override PartName="/ppt/media/image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BDC9-898A-4DDC-A509-E511926E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FB1E-87B3-4F77-81C2-099F0F3B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7289-4466-4AB4-A7F8-3CC627B6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CE70-414C-4FA8-AB8F-F511DF13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0D0C-7DF7-4FD0-B2CE-005AECAB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9B6E-5EF2-41C1-8005-4A31C0DC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73F1-327B-4DE1-ACC1-B1573B41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0915-77DA-4E45-8800-671839D7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0481-5A1C-48AA-B6AE-C252D741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49B4-9C64-4467-9A40-81670634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7492-E4FC-47C5-A957-5D93DD1B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4578-4F47-4754-921A-A2685C3B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A51A-D54C-4C78-9D74-CB5CB522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6D7D-00F1-4B9F-8742-FF85A244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5C12-4960-4296-AA77-CF032962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F864-5865-4FA5-AD75-55842F77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9494-A00E-4260-B04F-7EDF0B08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2B536-3F4F-4D0E-BDFA-1497E9D1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CBA2C-D9E1-460F-AB9F-DDB8ECC6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07400-8287-477D-B56A-87062123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EE1AC-E694-4F93-BBBB-D558ED20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FA594-9826-42EF-A848-1877FB36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C365-AB82-4563-8586-A993351A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7ACB4-EB80-4B16-BB14-EC8E9C7F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34207-6578-47C4-B3E0-7408DAE8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50379-185A-47E4-BEAE-B05100B4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42150-D2B2-4F64-9AB2-86644FC9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C8B91-96D2-456B-85A1-CF931CC5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6A1D4-054F-4A98-873C-2663BBFA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6D806-18F8-4155-BA38-A35F5080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A6058-A542-426C-B3C9-B529E678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B1DE6-5DFD-4B1E-B6F2-13F70A1F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36EB1-BFA2-44AF-BD9B-24340F72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4F2E-D59F-417F-98C3-71672D2C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E000B-52ED-490A-B79F-969CCC9B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48653-4A03-4C4A-83B6-D367F098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848AA-F66D-4604-8D64-6476F7A2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528FD-701B-4E68-9EE4-C7DF3777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36BEB-CBCD-4F80-BE3D-C4658403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A30CA-4487-4DCE-9A10-7A24753D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0A730-3049-49DC-86AE-52EFD813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05330-1E59-43BC-96D6-8E613F20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5161A-B592-48F4-8A35-C467A7E3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498FA-DFCB-427C-8B91-200753CE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EF81-1D3A-4069-AEBA-35AFA73B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F637D-15F2-4A46-B3B4-6D1E1EC4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54C38-F5A3-4A15-8D52-4A0B916D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93881-C754-4908-90D7-55806835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35AFE-8349-4C2C-9B2D-BF38ADEF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8301E-E2C3-40CD-BB70-8502B1F5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EE990-450C-43CA-BF6A-27BB5EE1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1D712-BF8E-4C16-96A8-B78A4A5D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3C952-320C-4015-B221-6D845D77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2B791-2D81-427C-975E-E66D51CB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26A2B-EECF-4B85-AA34-611EFA27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B205-8232-4A4D-BD30-7BC92121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B938E-3E84-45D1-9BAE-9F526285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8A08B9-4163-40E5-82C9-B81CA7A8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578644-84D7-47FB-ACB4-2DF38197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993509-AAD6-4D0E-99E2-645EBA80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E59A58-522D-4973-B213-048883C6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566427-10FE-4FC2-83D6-BC5EB269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66AAA5-9A08-4035-93C4-E7D0EA07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DD8428-B3DB-4EF4-B5B8-6D4EDFDD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0AF878-36FF-4653-AA2C-67BB26C8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97098F-C5B4-499E-8E7C-A94630AC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0A06-A109-4E9C-B7E9-A9A34F51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E1377C-4CA0-47FA-9833-00344F97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7C7D56-854B-4666-B5AF-939E6BEB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175FAF-80F1-40E3-B4AA-DA4DF3BD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A4414-C841-4207-AC62-561421A8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F7CC7-15C1-4AF6-B04B-8A0D4299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9C7DC-18E5-4237-98C9-DE57C012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DA8EB-FDE0-43A6-8439-6BD25ED3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63D51-29BB-47D5-AED6-6F7068C1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60BDC-E51D-4894-B742-9085A9B8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54052-2D9F-4FEE-B041-766FCF9A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799E-4E08-4FC7-AB44-E8BF204B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18707-9EB4-499C-8AF1-7249CC66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35C0E-019A-4A2A-8D9F-D32A7A67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3CBF7-5A98-4AA0-8751-CFFB9546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79647-EB56-482C-A7BF-C77B9BAF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7CFC2-89E3-4918-9CDF-7CDC188E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3813-A744-4B39-A07B-08C151C0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55AC-AEBB-4C24-861E-4E6EC777D2C2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1C12-4C4D-49C2-A829-55861E00D886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6A59-9325-4337-9EF8-E455525A0FB9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0E8B-569E-42B1-96B5-C17AB3BB13A7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F4E9-454E-4372-8E4D-00EF7167722A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5C0F-E6B7-40FE-BB5E-9952A40F6E5D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CF98-16A4-4938-B31A-0E372B63A2EE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МАЗДАИЗМ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7534c"/>
                </a:solidFill>
                <a:latin typeface="Book Antiqua"/>
              </a:rPr>
              <a:t>ЗОРОАСТРИЗМ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ЗАРАТУШТРА, </a:t>
            </a: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I </a:t>
            </a: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ТЫС. </a:t>
            </a: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BC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8" name="Объект 3" descr=""/>
          <p:cNvPicPr/>
          <p:nvPr/>
        </p:nvPicPr>
        <p:blipFill>
          <a:blip r:embed="rId1"/>
          <a:stretch/>
        </p:blipFill>
        <p:spPr>
          <a:xfrm>
            <a:off x="2898720" y="1843200"/>
            <a:ext cx="33465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ЗОРОАСТРИЗМ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МАЗДАИЗМ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АВЕСТИЗМ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МИТРАИЗМ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ПАРСИЗМ,   Х в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ОГНЕПОКЛОНСТВО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Объект 3" descr=""/>
          <p:cNvPicPr/>
          <p:nvPr/>
        </p:nvPicPr>
        <p:blipFill>
          <a:blip r:embed="rId1"/>
          <a:stretch/>
        </p:blipFill>
        <p:spPr>
          <a:xfrm>
            <a:off x="1555920" y="270000"/>
            <a:ext cx="558468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АВЕСТА, 21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ЯСНА молитва     ГАТЫ   песни  238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ЯШТЫ     восхваления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ВЕНДИДАД  закон против дэвов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ВИСПЕРЕД   служение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ГОСПОДИН МУДРОСТЬ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Мы славим Ахурамазду, который создал скот и Арту, воды и растения, свет и землю и все благое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3644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Гаты 37,1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Объект 3" descr=""/>
          <p:cNvPicPr/>
          <p:nvPr/>
        </p:nvPicPr>
        <p:blipFill>
          <a:blip r:embed="rId1"/>
          <a:stretch/>
        </p:blipFill>
        <p:spPr>
          <a:xfrm>
            <a:off x="-31680" y="-39600"/>
            <a:ext cx="917568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333000"/>
            <a:ext cx="82612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00000"/>
                </a:solidFill>
                <a:latin typeface="Book Antiqua"/>
              </a:rPr>
              <a:t>СПЕНТА МАЙНЬЮ И АНГРА МАЙНЬЮ</a:t>
            </a:r>
            <a:endParaRPr b="0" lang="en-US" sz="2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53360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Оба изначальных духа явились как пара близнецов, добрый и дурной  в мысли, слове, деле. И между ними благомыслящие сделали правильный выбор, не зломыслящие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И когда те два духа встретились вначале, они установили </a:t>
            </a:r>
            <a:r>
              <a:rPr b="0" lang="en-US" sz="3200" spc="-1" strike="noStrike">
                <a:solidFill>
                  <a:srgbClr val="c00000"/>
                </a:solidFill>
                <a:latin typeface="Century Gothic"/>
              </a:rPr>
              <a:t>[</a:t>
            </a: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с одной стороны жизнь</a:t>
            </a:r>
            <a:r>
              <a:rPr b="0" lang="en-US" sz="3200" spc="-1" strike="noStrike">
                <a:solidFill>
                  <a:srgbClr val="c00000"/>
                </a:solidFill>
                <a:latin typeface="Century Gothic"/>
              </a:rPr>
              <a:t>]</a:t>
            </a: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, </a:t>
            </a:r>
            <a:r>
              <a:rPr b="0" lang="en-US" sz="3200" spc="-1" strike="noStrike">
                <a:solidFill>
                  <a:srgbClr val="c00000"/>
                </a:solidFill>
                <a:latin typeface="Century Gothic"/>
              </a:rPr>
              <a:t>[</a:t>
            </a: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с другой</a:t>
            </a:r>
            <a:r>
              <a:rPr b="0" lang="en-US" sz="3200" spc="-1" strike="noStrike">
                <a:solidFill>
                  <a:srgbClr val="c00000"/>
                </a:solidFill>
                <a:latin typeface="Century Gothic"/>
              </a:rPr>
              <a:t>]</a:t>
            </a: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- разрушение жизни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Гаты 30, 3- 4 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c00000"/>
                </a:solidFill>
                <a:latin typeface="Book Antiqua"/>
              </a:rPr>
              <a:t>СПЕНТА</a:t>
            </a: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                         </a:t>
            </a:r>
            <a:r>
              <a:rPr b="0" lang="ru-RU" sz="3500" spc="-1" strike="noStrike">
                <a:solidFill>
                  <a:srgbClr val="c00000"/>
                </a:solidFill>
                <a:latin typeface="Book Antiqua"/>
              </a:rPr>
              <a:t> АНГРА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25520" y="1719000"/>
            <a:ext cx="4038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Жизнь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здоровье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Земля, вода, огонь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Добро, истина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Счастье 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48320" y="1719000"/>
            <a:ext cx="4038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Смерть болезнь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Пустота 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Зло, ложь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Страдание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Объект 3" descr=""/>
          <p:cNvPicPr/>
          <p:nvPr/>
        </p:nvPicPr>
        <p:blipFill>
          <a:blip r:embed="rId1"/>
          <a:stretch/>
        </p:blipFill>
        <p:spPr>
          <a:xfrm>
            <a:off x="2584440" y="345960"/>
            <a:ext cx="407844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ВЫБОР И ВОЗДАЯНИЕ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71432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Пройдя через испытания в красном огне и расплавленном металле, друджевцы войдут в царство мрака, а артовцы – в царство света                      Гаты 51, 9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36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Исповедую себя поклонником Мазды, зороастрийцем…Клятвой обязуюсь вершить добрую мысль, доброе слово, доброе деяние          Ясна 12, 8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Объект 3" descr=""/>
          <p:cNvPicPr/>
          <p:nvPr/>
        </p:nvPicPr>
        <p:blipFill>
          <a:blip r:embed="rId1"/>
          <a:stretch/>
        </p:blipFill>
        <p:spPr>
          <a:xfrm>
            <a:off x="2162160" y="-39600"/>
            <a:ext cx="474660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c00000"/>
                </a:solidFill>
                <a:latin typeface="Book Antiqua"/>
              </a:rPr>
              <a:t>НАВДЖОТ, СЕДРЕ, КОШТИ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66" name="Объект 3" descr=""/>
          <p:cNvPicPr/>
          <p:nvPr/>
        </p:nvPicPr>
        <p:blipFill>
          <a:blip r:embed="rId1"/>
          <a:stretch/>
        </p:blipFill>
        <p:spPr>
          <a:xfrm>
            <a:off x="3083040" y="1484280"/>
            <a:ext cx="297792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ТРАНСФОРМАЦИЯ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00000"/>
                </a:solidFill>
                <a:latin typeface="Century Gothic"/>
              </a:rPr>
              <a:t>АХУРА МАЗДА           АНГРА МАЙНЬЮ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00000"/>
                </a:solidFill>
                <a:latin typeface="Century Gothic"/>
              </a:rPr>
              <a:t>«Ахурамазда, Анахита и Митра меня да хранят от всякой скверны и то, что мною сделано»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00000"/>
                </a:solidFill>
                <a:latin typeface="Century Gothic"/>
              </a:rPr>
              <a:t>Надпись Артаксеркса </a:t>
            </a:r>
            <a:r>
              <a:rPr b="0" lang="en-US" sz="3300" spc="-1" strike="noStrike">
                <a:solidFill>
                  <a:srgbClr val="c00000"/>
                </a:solidFill>
                <a:latin typeface="Century Gothic"/>
              </a:rPr>
              <a:t>II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00000"/>
                </a:solidFill>
                <a:latin typeface="Century Gothic"/>
              </a:rPr>
              <a:t>Саошиант</a:t>
            </a:r>
            <a:r>
              <a:rPr b="0" lang="en-US" sz="3300" spc="-1" strike="noStrike">
                <a:solidFill>
                  <a:srgbClr val="c00000"/>
                </a:solidFill>
                <a:latin typeface="Century Gothic"/>
              </a:rPr>
              <a:t> 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WHERE IS HE?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5" name="Picture 2" descr="C:\Documents and Settings\Charles\Local Settings\Temporary Internet Files\Content.IE5\O9YJK1IJ\MC900389182[1].wmf"/>
          <p:cNvPicPr/>
          <p:nvPr/>
        </p:nvPicPr>
        <p:blipFill>
          <a:blip r:embed="rId1"/>
          <a:stretch/>
        </p:blipFill>
        <p:spPr>
          <a:xfrm>
            <a:off x="2720880" y="1795320"/>
            <a:ext cx="370224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C:\Documents and Settings\Charles\Local Settings\Temporary Internet Files\Content.IE5\6JYLAZOX\MC900331577[1].wmf"/>
          <p:cNvPicPr/>
          <p:nvPr/>
        </p:nvPicPr>
        <p:blipFill>
          <a:blip r:embed="rId1"/>
          <a:stretch/>
        </p:blipFill>
        <p:spPr>
          <a:xfrm>
            <a:off x="1530360" y="326880"/>
            <a:ext cx="6083280" cy="620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МФ. 4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1 Тогда Иисус возведен был Духом в пустыню, для искушения от диавола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3 И приступил к нему искуситель и сказал: если Ты Сын Божий, скажи чтобы камни сии сделались хлебами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entury Gothic"/>
              </a:rPr>
              <a:t>6...если Ты Сын Божий, бросься вниз…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МФ. 4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8 Берет Его диавол на весьма высокую гору, и показывает ему все царства мира…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3644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9 И говорит Ему: все это дам Тебе, если падши поклонишься мне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ИН. 12: 31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10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entury Gothic"/>
              </a:rPr>
              <a:t>Ныне суд миру сему; ныне князь мира сего изгнан будет вон</a:t>
            </a: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БОГ НАШЕГО ВРЕМЕНИ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3644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Для неверующих, у которых бог века сего ослепил умы, чтобы для них не воссиял свет благовествования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3644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                        </a:t>
            </a: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2-е Кор. 4: 4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УЧЕНИЕ О ДУХЕ ЗЛА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6" name="Объект 3" descr=""/>
          <p:cNvPicPr/>
          <p:nvPr/>
        </p:nvPicPr>
        <p:blipFill>
          <a:blip r:embed="rId1"/>
          <a:stretch/>
        </p:blipFill>
        <p:spPr>
          <a:xfrm>
            <a:off x="457200" y="1743120"/>
            <a:ext cx="822960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54:31Z</dcterms:created>
  <dc:creator>Muravyev</dc:creator>
  <dc:description/>
  <dc:language>en-US</dc:language>
  <cp:lastModifiedBy>Muravyev</cp:lastModifiedBy>
  <dcterms:modified xsi:type="dcterms:W3CDTF">2012-12-02T17:29:18Z</dcterms:modified>
  <cp:revision>6</cp:revision>
  <dc:subject/>
  <dc:title>Зороастризм</dc:title>
</cp:coreProperties>
</file>